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368-F76B-4B9F-B1E8-84DB581E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491-0434-4A30-8D08-37D9A4C2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802-982E-430D-A420-B8862D02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DB6-9CA8-4D62-9E88-6779CBFF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AE1-39F2-46E2-AA36-A30FB0D5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8A3-723D-439C-92C9-FA67EC9C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08C-D0D5-41D6-B1C6-2DDEA411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183-3F05-40CE-BE63-B58F76F6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186-2ECD-4BC8-81D7-6F895EB1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CEC-5A98-4426-8CC1-85D9A97C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CFF-A484-4484-B95D-27ADF41C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333-40E4-491B-8AF0-2A45AE10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8551-E95C-47A0-BF0C-ED92A97C764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ÜMLEDE</a:t>
            </a:r>
            <a:br>
              <a:rPr sz="12400"/>
            </a:br>
            <a:r>
              <a:rPr b="1" lang="tr-TR" sz="1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NLAM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BEP – SONU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tr-T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DEN - SONUÇ</a:t>
            </a: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larında benzerlik bulunan iki varlıktan </a:t>
            </a:r>
            <a:br>
              <a:rPr sz="7200"/>
            </a:br>
            <a:r>
              <a:rPr b="1" lang="tr-T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 da durumdan zayıf olanın güçlüye benzetilmesi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lan asker</a:t>
            </a:r>
            <a:br>
              <a:rPr sz="7200"/>
            </a:br>
            <a:r>
              <a:rPr b="1" lang="tr-T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ın gibi saçlar</a:t>
            </a:r>
            <a:br>
              <a:rPr sz="7200"/>
            </a:br>
            <a:r>
              <a:rPr b="1" lang="tr-T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z gibi hav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ART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İR VARLIĞI YA DA OLAYI OLDUĞUNDAN BÜYÜK VEYA OLDUĞUNDAN KÜÇÜK GÖSTERMEK</a:t>
            </a:r>
            <a:br>
              <a:rPr sz="4800"/>
            </a:br>
            <a:r>
              <a:rPr b="1" lang="tr-TR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ünyalar kadar işim v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5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AKTARMASI</a:t>
            </a:r>
            <a:br>
              <a:rPr sz="8000"/>
            </a:br>
            <a:r>
              <a:rPr b="1" lang="tr-T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AZI MÜRSE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İR KELİMEYİ BENZETME AMACI GÜTMEDEN BAŞKA BİR KELİMENİN YERİNE KULLANMA</a:t>
            </a:r>
            <a:br>
              <a:rPr sz="6000"/>
            </a:br>
            <a:r>
              <a:rPr b="1" lang="tr-T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ATIDI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3840" y="188640"/>
            <a:ext cx="89298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ÜP BİTTİ. </a:t>
            </a:r>
            <a:r>
              <a:rPr b="1" lang="tr-T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GAZ)</a:t>
            </a:r>
            <a:br>
              <a:rPr sz="6000"/>
            </a:br>
            <a:br>
              <a:rPr sz="6000"/>
            </a:br>
            <a:r>
              <a:rPr b="1" lang="tr-T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AYI YAKALIM. </a:t>
            </a:r>
            <a:r>
              <a:rPr b="1" lang="tr-T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ODUN)</a:t>
            </a:r>
            <a:br>
              <a:rPr sz="6000"/>
            </a:br>
            <a:br>
              <a:rPr sz="6000"/>
            </a:br>
            <a:r>
              <a:rPr b="1" lang="tr-T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İ CEPTEN ARA. </a:t>
            </a:r>
            <a:r>
              <a:rPr b="1" lang="tr-T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TELEFON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LAYLAM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TIMI GÜZELLEŞTİRMEK İÇİN TEK KELİME İLE ANLATILABİLECEK KAVRAMLARI İKİ KELİMEYLE VERM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840" y="188640"/>
            <a:ext cx="89298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YA KUZUSU </a:t>
            </a: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BALIK)</a:t>
            </a:r>
            <a:br>
              <a:rPr sz="5400"/>
            </a:br>
            <a:br>
              <a:rPr sz="5400"/>
            </a:b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İLE BEKÇİSİ</a:t>
            </a: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KALECİ)</a:t>
            </a:r>
            <a:br>
              <a:rPr sz="5400"/>
            </a:br>
            <a:br>
              <a:rPr sz="5400"/>
            </a:b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ANLARIN KRALI</a:t>
            </a: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SLA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ylemin niçin yapıldığını </a:t>
            </a:r>
            <a:br>
              <a:rPr sz="5400"/>
            </a:br>
            <a:r>
              <a:rPr b="1" lang="tr-TR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e sonunda ne olduğunu bildirir.</a:t>
            </a:r>
            <a:br>
              <a:rPr sz="5400"/>
            </a:br>
            <a:br>
              <a:rPr sz="5400"/>
            </a:br>
            <a:r>
              <a:rPr b="1" lang="tr-TR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m bittiği için eve yürüyerek gitti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285920"/>
            <a:ext cx="9144000" cy="364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ÜMLEDE</a:t>
            </a:r>
            <a:br>
              <a:rPr sz="8800"/>
            </a:br>
            <a:r>
              <a:rPr b="1" lang="tr-TR" sz="8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İĞER KAVRAMLA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IFLANM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8413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ZÜLMEK, ACINMAK, BAŞKASINA ACIMA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50004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Üzgünüm, elektriğinizi keseceğiz, borcu va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aalesef, istediğiniz kalemden kalmamış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alesef, hastayı kaybetti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REKÇ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14200" y="800280"/>
            <a:ext cx="8715600" cy="55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BEP – NED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DEVİMİ PİLOT KALEMLE YAZMA GEREKÇEM, KURŞUN KALEMİMİN KIRILMASIDIR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1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ŞAMALI ANLATIM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GİTTİKÇE AZALAN VEYA GİTTİKÇE ARTAN DURUMLARIN ANLATIMI</a:t>
            </a:r>
            <a:br>
              <a:rPr sz="5300"/>
            </a:br>
            <a:br>
              <a:rPr sz="5300"/>
            </a:br>
            <a:r>
              <a:rPr b="1" lang="tr-TR" sz="5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r geçen gün biraz daha üzülüyorum.</a:t>
            </a:r>
            <a:br>
              <a:rPr sz="5300"/>
            </a:br>
            <a:r>
              <a:rPr b="1" lang="tr-TR" sz="5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Günden güne iyileşiyor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ÇEKLEŞMEMİŞ BEKLENTİ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r durum ve olayın beklenilen, düşünülen şekilde gerçekleşmemes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 CÜMLELERDE </a:t>
            </a:r>
            <a:br>
              <a:rPr sz="5400"/>
            </a:br>
            <a:r>
              <a:rPr b="1" lang="tr-TR" sz="5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HER İKİ YARGI DA GERÇEKLEŞMİŞTİR.</a:t>
            </a:r>
            <a:br>
              <a:rPr sz="5400"/>
            </a:br>
            <a:br>
              <a:rPr sz="4800"/>
            </a:br>
            <a:r>
              <a:rPr b="1" lang="tr-TR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STA OLDUĞU İÇİN OKULA GİDEMEDİ.</a:t>
            </a:r>
            <a:br>
              <a:rPr sz="4800"/>
            </a:br>
            <a:r>
              <a:rPr b="1" lang="tr-TR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asta olmak, gerçekleşti.</a:t>
            </a:r>
            <a:br>
              <a:rPr sz="4400"/>
            </a:br>
            <a:r>
              <a:rPr b="1" lang="tr-TR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kula gidememek gerçekleşt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73836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na da Ankara’dan kitap getirecekti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cunu bugün getirmesi gerekiyord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p telefonunun faturasını bugün yatıracakt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 YAPTIĞI İÇİN ZAYIFLADI.</a:t>
            </a:r>
            <a:br>
              <a:rPr sz="7200"/>
            </a:br>
            <a:r>
              <a:rPr b="1" lang="tr-TR" sz="4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por yapmak, gerçekleşti.</a:t>
            </a:r>
            <a:br>
              <a:rPr sz="4800"/>
            </a:br>
            <a:r>
              <a:rPr b="1" lang="tr-TR" sz="4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Zayıflamak gerçekleşti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AÇ – SONUÇ CÜMLES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ylemin hangi amaçla yapıldığını bildirir.</a:t>
            </a:r>
            <a:br>
              <a:rPr sz="6600"/>
            </a:br>
            <a:br>
              <a:rPr sz="6600"/>
            </a:b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ayene olmak için </a:t>
            </a:r>
            <a:br>
              <a:rPr sz="6600"/>
            </a:b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oktora gitti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 CÜMLELERDE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İ YARGIDAN</a:t>
            </a:r>
            <a:r>
              <a:rPr b="1" lang="tr-TR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İRİ </a:t>
            </a: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ÇEKLEŞMİŞTİR.</a:t>
            </a:r>
            <a:br>
              <a:rPr sz="4800"/>
            </a:br>
            <a:br>
              <a:rPr sz="4800"/>
            </a:br>
            <a:r>
              <a:rPr b="1" lang="tr-T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R YAPMAK İÇİN </a:t>
            </a:r>
            <a:br>
              <a:rPr sz="4400"/>
            </a:br>
            <a:r>
              <a:rPr b="1" lang="tr-T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KEN KALKTI.</a:t>
            </a:r>
            <a:br>
              <a:rPr sz="4400"/>
            </a:br>
            <a:r>
              <a:rPr b="1" lang="tr-TR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KEN KALKMAK: gerçekleşti.</a:t>
            </a:r>
            <a:br>
              <a:rPr sz="4400"/>
            </a:br>
            <a:r>
              <a:rPr b="1" lang="tr-TR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OR YAPMAK: gerçekleşip gerçekleşmediği belli deği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ORU ÇÖZMEK İÇİN </a:t>
            </a:r>
            <a:br>
              <a:rPr sz="6600"/>
            </a:b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ST KİTABI ALDI.</a:t>
            </a:r>
            <a:br>
              <a:rPr sz="6600"/>
            </a:b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İTAP ALMAK: gerçekleşti.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ÇÖZMEK: gerçekleşip gerçekleşmediği belli değ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6432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A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OŞUL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S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İR EYLEMİN GERÇEKLEŞMESİNİ BAŞKA BİR EYLEMİN GERÇEKLEŞMESİNE BAĞLAR.</a:t>
            </a:r>
            <a:br>
              <a:rPr sz="5400"/>
            </a:b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Ödevini bitirirsen</a:t>
            </a:r>
            <a:br>
              <a:rPr sz="6600"/>
            </a:b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ana dondurma alırım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57192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NEL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tr-T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KTİF</a:t>
            </a: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ŞART CÜMLESİNDE </a:t>
            </a:r>
            <a:br>
              <a:rPr sz="4800"/>
            </a:br>
            <a:r>
              <a:rPr b="1" lang="tr-TR" sz="4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İLLAKİ “-SA/-SE” EKİ BULUNMAK </a:t>
            </a:r>
            <a:br>
              <a:rPr sz="4800"/>
            </a:br>
            <a:r>
              <a:rPr b="1" lang="tr-TR" sz="4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ZORUNDA DEĞİL.</a:t>
            </a:r>
            <a:br>
              <a:rPr sz="3600"/>
            </a:br>
            <a:br>
              <a:rPr sz="3600"/>
            </a:br>
            <a:r>
              <a:rPr b="1" lang="tr-T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YARIN GERİ GETİRMEK </a:t>
            </a:r>
            <a:r>
              <a:rPr b="1" lang="tr-TR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ÜZERE</a:t>
            </a:r>
            <a:r>
              <a:rPr b="1" lang="tr-T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BU KİTABI ALABİLİRSİNİZ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ŞILAŞTIR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BİR NESNEYİ VEYA DÜŞÜNCEYİ BENZER YA DA FARKLI YÖNLERDEN KIYASLAMAK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1" lang="tr-T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 pahalı kalemler, </a:t>
            </a:r>
            <a:br>
              <a:rPr sz="6000"/>
            </a:br>
            <a:r>
              <a:rPr b="1" lang="tr-T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ilot kalemlerdir.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70920"/>
            <a:ext cx="9144000" cy="107172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IM CÜMLES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BİR KAVRAMI, DURUMU VEYA NESNEYİ </a:t>
            </a:r>
            <a:br>
              <a:rPr sz="4800"/>
            </a:br>
            <a:r>
              <a:rPr b="1" lang="tr-TR" sz="4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BELİRGİN VE TAM OLARAK TARİF ETMEKTİR.</a:t>
            </a:r>
            <a:br>
              <a:rPr sz="4800"/>
            </a:br>
            <a:br>
              <a:rPr sz="3600"/>
            </a:br>
            <a:r>
              <a:rPr b="1" lang="tr-T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mi niteleyen kelimelere “sıfat” deni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nımlar, her zaman “denir” şeklinde bitmeyebilir.</a:t>
            </a:r>
            <a:br>
              <a:rPr sz="7200"/>
            </a:br>
            <a:br>
              <a:rPr sz="7200"/>
            </a:br>
            <a:r>
              <a:rPr b="1" lang="tr-TR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Sıfatlar, ismi niteleyen kelimelerdi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tr-T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ir/-dır” ekleriyle biten her cümle tanım olmayabilir. </a:t>
            </a: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ım olacak ifade “Bu nedir?” sorusuna tam cevap verebilmelidir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lem, siyah renkli bir malzemedir. (Tanım değil)</a:t>
            </a:r>
            <a:br>
              <a:rPr sz="4400"/>
            </a:br>
            <a:r>
              <a:rPr b="1" lang="tr-TR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Kalem, yazı yazmaya yarayan gereçtir. (Tanı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NIMA </a:t>
            </a:r>
            <a:br>
              <a:rPr sz="6600"/>
            </a:br>
            <a:r>
              <a:rPr b="1" lang="tr-TR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 GÜZEL ÖRNEK:</a:t>
            </a:r>
            <a:br>
              <a:rPr sz="6600"/>
            </a:b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VLANA</a:t>
            </a:r>
            <a:br>
              <a:rPr sz="6600"/>
            </a:b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SNEVİ</a:t>
            </a:r>
            <a:br>
              <a:rPr sz="6600"/>
            </a:b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İL HİKÂYES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ASILIK </a:t>
            </a:r>
            <a:r>
              <a:rPr b="1" lang="tr-T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İHTİMAL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BİR OLAYIN NASIL SONUÇLANACAĞINI KESTİRMEYE ÇALIŞMAK</a:t>
            </a:r>
            <a:br>
              <a:rPr sz="3600"/>
            </a:br>
            <a:br>
              <a:rPr sz="3600"/>
            </a:br>
            <a:r>
              <a:rPr b="1" lang="tr-T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lladığım mektup dün eline geçmişti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HERKES TARAFINDAN KABUL EDİLİR.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DOĞRULUĞU KİŞİDEN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İŞİYE DEĞİŞMEZ.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KANITLANABİLİR.</a:t>
            </a:r>
            <a:br>
              <a:rPr sz="4800"/>
            </a:br>
            <a:br>
              <a:rPr sz="4800"/>
            </a:br>
            <a:r>
              <a:rPr b="1" lang="tr-TR" sz="4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ürkiye’nin en kalabalık şehri İstanbul’dur.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SAYI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BİR OLAYI GERÇEKLEŞMİŞ GİBİ DÜŞÜNEREK KONUŞMAK</a:t>
            </a:r>
            <a:br>
              <a:rPr sz="3600"/>
            </a:br>
            <a:br>
              <a:rPr sz="3600"/>
            </a:br>
            <a:r>
              <a:rPr b="1" lang="tr-TR" sz="6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ınıfı geçemediğini varsayalım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EN ÇOK KULLANILAN VARSAYIM KELİMELERİ</a:t>
            </a: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İYELİM Kİ</a:t>
            </a: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T Kİ</a:t>
            </a: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RZ ET Kİ</a:t>
            </a: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SAYALIM K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SİNLİ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ŞÜPHEYE YER </a:t>
            </a:r>
            <a:br>
              <a:rPr sz="4800"/>
            </a:br>
            <a:r>
              <a:rPr b="1" lang="tr-TR" sz="4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BIRKAMAYAN, NESNEL VE MUTLAK CÜMLE</a:t>
            </a:r>
            <a:br>
              <a:rPr sz="3600"/>
            </a:br>
            <a:br>
              <a:rPr sz="3600"/>
            </a:br>
            <a:r>
              <a:rPr b="1" lang="tr-TR" sz="7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Ülkemizin üç tarafı denizlerle çevrilidir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NERİ (TEKLİF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BİR SORUNU ÇÖZMEK İÇİN YAPILMASI GEREKENİ BİLDİRİR.</a:t>
            </a:r>
            <a:br>
              <a:rPr sz="3600"/>
            </a:br>
            <a:br>
              <a:rPr sz="3600"/>
            </a:br>
            <a:r>
              <a:rPr b="1" lang="tr-TR" sz="7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anımadığın insanlardan yiyecek almamalısın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920"/>
          </a:xfrm>
          <a:prstGeom prst="rect">
            <a:avLst/>
          </a:prstGeom>
          <a:solidFill>
            <a:srgbClr val="ffff00"/>
          </a:solidFill>
          <a:ln w="73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ŞTİRİ</a:t>
            </a:r>
            <a:br>
              <a:rPr sz="8500"/>
            </a:br>
            <a:r>
              <a:rPr b="1" lang="tr-TR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ĞERLENDİRM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38592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İR ESERİN / KİŞİNİN / VARLIĞI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M OLUMLU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M OLUMSUZ </a:t>
            </a:r>
            <a:r>
              <a:rPr b="1" lang="tr-TR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RAFLARINI ORTAYA KOYMAK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14200" y="385920"/>
            <a:ext cx="8643960" cy="61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Çorbanın kıvamını tutturamamış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Yazarın tasvirleri çok başarılı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tr-TR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</a:t>
            </a:r>
            <a:br>
              <a:rPr sz="4800"/>
            </a:br>
            <a:r>
              <a:rPr b="1" lang="tr-TR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</a:t>
            </a:r>
            <a:br>
              <a:rPr sz="4800"/>
            </a:br>
            <a:r>
              <a:rPr b="1" lang="tr-TR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</a:t>
            </a:r>
            <a:br>
              <a:rPr sz="4800"/>
            </a:br>
            <a:r>
              <a:rPr b="1" lang="tr-TR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K</a:t>
            </a:r>
            <a:br>
              <a:rPr sz="4800"/>
            </a:br>
            <a:r>
              <a:rPr b="1" lang="tr-TR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</a:t>
            </a:r>
            <a:br>
              <a:rPr sz="4800"/>
            </a:br>
            <a:r>
              <a:rPr b="1" lang="tr-TR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NE</a:t>
            </a:r>
            <a:r>
              <a:rPr b="1" lang="tr-TR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</a:t>
            </a:r>
            <a:r>
              <a:rPr b="1" lang="tr-TR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EL</a:t>
            </a:r>
            <a:br>
              <a:rPr sz="4800"/>
            </a:br>
            <a:r>
              <a:rPr b="1" lang="tr-TR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Ç</a:t>
            </a:r>
            <a:br>
              <a:rPr sz="4800"/>
            </a:br>
            <a:r>
              <a:rPr b="1" lang="tr-TR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85840" y="1274760"/>
            <a:ext cx="8643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ştiriyi sadece olumsuz zannetmeyi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(</a:t>
            </a:r>
            <a:r>
              <a:rPr b="1" lang="tr-T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KAZ</a:t>
            </a: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KİŞİLERİN DOĞRU DAVRANIŞLARDA BULUNMALARINI HATIRLATMAK</a:t>
            </a:r>
            <a:br>
              <a:rPr sz="3600"/>
            </a:br>
            <a:br>
              <a:rPr sz="3600"/>
            </a:br>
            <a:r>
              <a:rPr b="1" lang="tr-T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içekleri koparma </a:t>
            </a:r>
            <a:br>
              <a:rPr sz="7200"/>
            </a:br>
            <a:r>
              <a:rPr b="1" lang="tr-T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 daha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35728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N YARG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tr-T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ŞİN HÜKÜM</a:t>
            </a: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İR OLAYIN </a:t>
            </a:r>
            <a:r>
              <a:rPr b="1" lang="tr-TR" sz="6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ONUCUNU GÖRMEDEN </a:t>
            </a:r>
            <a:r>
              <a:rPr b="1" lang="tr-TR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NUÇ HAKKINDA </a:t>
            </a:r>
            <a:r>
              <a:rPr b="1" lang="tr-TR" sz="6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LUMLU YA DA OLUMSUZ </a:t>
            </a:r>
            <a:r>
              <a:rPr b="1" lang="tr-TR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ÖRÜŞ BİLDİRM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YENİ ÇIKAN BU ROMAN </a:t>
            </a:r>
            <a:br>
              <a:rPr sz="6000"/>
            </a:br>
            <a:r>
              <a:rPr b="1" lang="tr-TR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İR HAFTA İÇİNDE </a:t>
            </a:r>
            <a:br>
              <a:rPr sz="6000"/>
            </a:br>
            <a:r>
              <a:rPr b="1" lang="tr-TR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İNLERCE SATILI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U APARTMANDAN KİMSE DAİRE ALMAZ.</a:t>
            </a:r>
            <a:br>
              <a:rPr sz="5400"/>
            </a:br>
            <a:br>
              <a:rPr sz="5400"/>
            </a:br>
            <a:r>
              <a:rPr b="1" lang="tr-T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 MAHALLEDEKİ ARSALAR ASLA DEĞERLENMEZ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 ELEŞTİR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İŞİNİN KENDİNİ HESABA ÇEKMESİ;</a:t>
            </a:r>
            <a:br>
              <a:rPr sz="6000"/>
            </a:br>
            <a:br>
              <a:rPr sz="6000"/>
            </a:br>
            <a:r>
              <a:rPr b="1" lang="tr-TR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KSİKLİKLERİNİ, FAZLALIKLARINI SORGULAMASI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tematik ödevimi biriktirdiğim için yetiştiremedim.</a:t>
            </a:r>
            <a:br>
              <a:rPr sz="5400"/>
            </a:br>
            <a:r>
              <a:rPr b="1" lang="tr-TR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n iyi bir kitap okuyucusu değilim.</a:t>
            </a:r>
            <a:br>
              <a:rPr sz="5400"/>
            </a:br>
            <a:r>
              <a:rPr b="1" lang="tr-T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 iyi özelliğim, kimseye yalan söylememe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85784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NEL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BJEKTİF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tr-T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ÖZNELLİK</a:t>
            </a: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SL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ZARIN DİLİ KULLANMA BİÇİMİ</a:t>
            </a:r>
            <a:br>
              <a:rPr sz="7200"/>
            </a:br>
            <a:r>
              <a:rPr b="1" lang="tr-T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UYU ANLATMA BİÇİMİ</a:t>
            </a:r>
            <a:br>
              <a:rPr sz="7200"/>
            </a:br>
            <a:r>
              <a:rPr b="1" lang="tr-T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LATIM BİÇİM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manında mecazları ustaca kullanmış.</a:t>
            </a:r>
            <a:br>
              <a:rPr sz="5400"/>
            </a:br>
            <a:br>
              <a:rPr sz="5400"/>
            </a:b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kâyelerinde deyimleri çok kullanır.</a:t>
            </a:r>
            <a:br>
              <a:rPr sz="5400"/>
            </a:b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li çocuklar için çok ağırdı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ÇERİ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ZARI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 ALDIĞI KONU</a:t>
            </a:r>
            <a:br>
              <a:rPr sz="8000"/>
            </a:br>
            <a:r>
              <a:rPr b="1" lang="tr-TR" sz="8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YAZAR NE ANLATIYO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kâyelerinde sokak çocuklarının hayatını görmek mümkün.</a:t>
            </a:r>
            <a:br>
              <a:rPr sz="5400"/>
            </a:b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romanında yazarımız yine göçebe insanların sıkıntılarını dile getiriyo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57192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RTÜL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ÖRTÜK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ÜMLEDE AÇIKÇA SÖYLENMEDİĞİ HÂLDE CÜMLEDEKİ İFADELERDEN ÇIKARILABİLEN ANL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sa ben de geç kaldım.</a:t>
            </a:r>
            <a:br>
              <a:rPr sz="5400"/>
            </a:b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mekki başka geç kalanlar da var.)</a:t>
            </a: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idat borcumu ben de yatırmadım.</a:t>
            </a: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emekki borcunu yatırmayan başkaları da var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ün müzik dersi de boş geçti.</a:t>
            </a: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emekki boş geçen başka dersler de vardı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*KİŞİSEL DUYGU VE DÜŞÜNCELERİ YANSITIR.</a:t>
            </a:r>
            <a:br>
              <a:rPr sz="4500"/>
            </a:br>
            <a:r>
              <a:rPr b="1" lang="tr-TR" sz="4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*DOĞRULUĞU KİŞİDEN </a:t>
            </a:r>
            <a:br>
              <a:rPr sz="4500"/>
            </a:br>
            <a:r>
              <a:rPr b="1" lang="tr-TR" sz="4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KİŞİYE DEĞİŞEBİLİR.</a:t>
            </a:r>
            <a:br>
              <a:rPr sz="4500"/>
            </a:br>
            <a:r>
              <a:rPr b="1" lang="tr-TR" sz="4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*KANITLANAMAZ.</a:t>
            </a:r>
            <a:br>
              <a:rPr sz="4500"/>
            </a:br>
            <a:r>
              <a:rPr b="1" lang="tr-TR" sz="4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*YORUMA AÇIKTIR.</a:t>
            </a:r>
            <a:br>
              <a:rPr sz="4500"/>
            </a:br>
            <a:br>
              <a:rPr sz="4500"/>
            </a:br>
            <a:r>
              <a:rPr b="1" lang="tr-TR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ürkiye’nin en güzel şehri Ankara’dır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LAYLI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TI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şkasına ait konuşmayı eriterek verme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EM EVE ERKEN GELMEMİ SÖYLEDİ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OĞRUDAN ANLATI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şkasına ait konuşmayı hiç değiştirmeden alıntılama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EM, “</a:t>
            </a:r>
            <a:r>
              <a:rPr b="1" lang="tr-TR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VE ERKEN GEL!</a:t>
            </a:r>
            <a:r>
              <a:rPr b="1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” DEDİ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285920"/>
            <a:ext cx="9144000" cy="328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ÜMLEDE</a:t>
            </a:r>
            <a:br>
              <a:rPr sz="8800"/>
            </a:br>
            <a:r>
              <a:rPr b="1" lang="tr-TR" sz="8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UYGULA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İŞMANLI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İŞİNİN KENDİ YAPTIĞI BİR DAVRANIŞTAN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ŞNUT VE MEMNUN OLMAMAS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ŞKE TELEFONUMU ERKEN SATMASAYDIM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yi öznel kılan anahtar kelimeler, önemli ipucudur.</a:t>
            </a:r>
            <a:br>
              <a:rPr sz="4800"/>
            </a:b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ürkiye’nin </a:t>
            </a:r>
            <a:br>
              <a:rPr sz="6600"/>
            </a:b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 </a:t>
            </a:r>
            <a:r>
              <a:rPr b="1" lang="tr-TR" sz="66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güzel</a:t>
            </a:r>
            <a:r>
              <a:rPr b="1" lang="tr-TR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şehri Ankara’dı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ÖZ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İR VARLIĞI YA DA KİŞİYİ GÖRME, ONUNLA KONUŞMA İSTEĞ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DEMGİL BURNUMDA TÜTÜYO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KIN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İR DURUM VEYA KİŞİDEN</a:t>
            </a:r>
            <a:br>
              <a:rPr sz="8000"/>
            </a:br>
            <a:r>
              <a:rPr b="1" lang="tr-TR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ŞİKÂYET ETMEK,</a:t>
            </a:r>
            <a:br>
              <a:rPr sz="8000"/>
            </a:br>
            <a:r>
              <a:rPr b="1" lang="tr-TR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RT YANMA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EDİYE , 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İZİM SOKAĞIN ASFALT ÇALIŞMALARINA BİR TÜRLÜ BAŞLAYAMADI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EZG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İR ŞEYİN OLUP OLMAYACAĞINI ÖNCEDEN </a:t>
            </a:r>
            <a:r>
              <a:rPr b="1" lang="tr-T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İSSETME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İ’NİN BİR İŞLER KARIŞTIRDIĞINI ANLAMIŞTIM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KÜÇÜMSE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ITLANABİLİRLİ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ŞISINDAKİNİ KÜÇÜK GÖRME, HAFİFE AL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SENE TIP FAKÜLTESİNİ KAZANACAKMIŞ, BAK SEN ŞUNA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ZIMSA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İR ŞEYİN MİKTARINI AZ GÖRME, 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TERSİZ BUL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AMA KADAR ÜÇ TANE Mİ ŞİİR YAZABİLDİ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ÇAY KİME YETECEK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ŞAŞIR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İÇ BEKLEMEMEK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RET ETME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ÇEDEN SIFIR ALACAĞINA DÜNYADA İNANMAZDIM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İT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öznel mi yoksa nesnel mi?” diye bakacağız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KÜSTÜĞÜNÜ,</a:t>
            </a:r>
            <a:br>
              <a:rPr sz="6000"/>
            </a:br>
            <a:r>
              <a:rPr b="1" lang="tr-TR" sz="6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GÜCENDİĞİNİ KIRILDIĞINI BAĞIRIP ÇAĞIRMADAN, KİBARCA BELİRTM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4200" y="1428840"/>
            <a:ext cx="871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kniğe gitmişsiniz de beni çağırmamışsınız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8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IŞIK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ÖZCÜKLERDEN CÜMLE 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ÖZNE -NESNE-TÜMLEÇ -YÜKLEM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EKLİNDE </a:t>
            </a:r>
            <a:br>
              <a:rPr sz="4800"/>
            </a:br>
            <a:r>
              <a:rPr b="1" lang="tr-TR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ÇENİN CÜMLE KURULUŞUNA </a:t>
            </a: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İKKAT EDECEĞİZ.</a:t>
            </a:r>
            <a:br>
              <a:rPr sz="4800"/>
            </a:b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EKİRSE ŞIKLARDAN GİDECEĞİZ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364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ÜMLEDE</a:t>
            </a:r>
            <a:br>
              <a:rPr sz="8800"/>
            </a:br>
            <a:r>
              <a:rPr b="1" lang="tr-TR" sz="8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ÖZ SANATLAR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İŞİLEŞTİRME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ŞHİS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nsan dışındaki bir varlığa </a:t>
            </a:r>
            <a:r>
              <a:rPr b="1" lang="tr-T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dece insanlara özgü olan bir özelliği</a:t>
            </a:r>
            <a:r>
              <a:rPr b="1" lang="tr-T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ükleme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di, mutluktan havalara uçuyordu.</a:t>
            </a:r>
            <a:br>
              <a:rPr sz="5400"/>
            </a:br>
            <a:br>
              <a:rPr sz="5400"/>
            </a:br>
            <a:r>
              <a:rPr b="1" lang="tr-T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m ağacı, bugün keyifsizdi.</a:t>
            </a:r>
            <a:br>
              <a:rPr sz="5400"/>
            </a:br>
            <a:br>
              <a:rPr sz="5400"/>
            </a:b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, sıkıntıdan patlıyordu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 Y A R I</a:t>
            </a:r>
            <a:br>
              <a:rPr sz="5400"/>
            </a:b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Kedi, uyuyordu.”</a:t>
            </a:r>
            <a:br>
              <a:rPr sz="5400"/>
            </a:br>
            <a:r>
              <a:rPr b="1" lang="tr-T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sek kişileştirme olmaz.</a:t>
            </a:r>
            <a:br>
              <a:rPr sz="5400"/>
            </a:br>
            <a:r>
              <a:rPr b="1" lang="tr-T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ünkü uyumak sadece insanlara özgü değil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ET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1T20:10:16Z</dcterms:modified>
  <cp:revision>127</cp:revision>
  <dc:subject/>
  <dc:title>KONU 1</dc:title>
</cp:coreProperties>
</file>